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CD7E-ABA9-4729-80D3-69BD564A9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OSS Architecture Pilot development consists of multiple steps. The first step is the conceptual development. The air quality scenario for the Pilot is a key part of the conceptual develop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Quality Scenario was developed iteratively by a collaborating multi-organization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 used the ESIP wiki and telecons to discuss and develop the submitted scenar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ty of Practice is to co-evolve with the AIP Pilot and other ac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AFDD-F901-4BC3-BB9C-278495B7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6563-19FC-4548-873B-F9DA5BC2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EAD1-F753-4C60-A872-F2704CFC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BD9A-378D-4D7E-80CD-C06B1A52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A1D0-6D22-41BD-9EDB-AA7E7FAE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B7DB-DF35-41A0-86FE-1FD53332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D697-D951-49D0-BA46-BFB5E2F5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4816-675A-4F7A-8379-E21BA3E0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B03F-758B-487E-A96D-1F6313AE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4EA0-AF07-4669-8879-33F0ABF0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FE33-F4A0-400F-91F2-6637252D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99FC-F8B7-4BDD-8CE3-C201FABA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74C2-4679-41F6-B86A-F4B8D2A20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685800" y="28951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iki.esipfed.org/index.php/AIP_AQ_Unified_Scenario" TargetMode="External"/><Relationship Id="rId2" Type="http://schemas.openxmlformats.org/officeDocument/2006/relationships/hyperlink" Target="http://wiki.esipfed.org/index.php/GEOSS_AIP_AQ_Scenario" TargetMode="External"/><Relationship Id="rId3" Type="http://schemas.openxmlformats.org/officeDocument/2006/relationships/hyperlink" Target="http://wiki.esipfed.org/index.php/Talk:GEOSS_AIP_AQ_Scenario" TargetMode="External"/><Relationship Id="rId4" Type="http://schemas.openxmlformats.org/officeDocument/2006/relationships/hyperlink" Target="http://wiki.esipfed.org/index.php/GEOSS_AIP_AQ_Scenario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4720" y="19555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GEOSS ADC </a:t>
            </a:r>
            <a:br>
              <a:rPr sz="3600"/>
            </a:b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Air Quality &amp; Health Scenario </a:t>
            </a:r>
            <a:br>
              <a:rPr sz="3600"/>
            </a:b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E.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Environmental Protection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.johne@epa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9880" y="1773360"/>
            <a:ext cx="196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bal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ll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CMW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63920" y="1843200"/>
            <a:ext cx="610848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83000" y="1971720"/>
            <a:ext cx="5968800" cy="430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317520" y="1897200"/>
            <a:ext cx="202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the public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Quality &amp; Forecast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time: Ai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2840" y="2135160"/>
            <a:ext cx="21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W – W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Interoperability NEEDED!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314520" y="3371400"/>
            <a:ext cx="2600280" cy="28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ystem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ipe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n’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reinv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e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433840" y="1500120"/>
            <a:ext cx="2476800" cy="1865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859040" y="1733400"/>
            <a:ext cx="2797200" cy="15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886360" y="3932280"/>
            <a:ext cx="2965680" cy="2179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965160" y="3933720"/>
            <a:ext cx="233208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ir Quality Scenario </a:t>
            </a:r>
            <a:r>
              <a:rPr b="1" lang="en-US" sz="2800" spc="-1" strike="noStrike" u="sng">
                <a:solidFill>
                  <a:srgbClr val="005faa"/>
                </a:solidFill>
                <a:uFillTx/>
                <a:latin typeface="Arial"/>
              </a:rPr>
              <a:t>Development Proces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841400"/>
            <a:ext cx="80773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enario was developed iteratively by a collaborating multi-organization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SIP wik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telecons to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iscu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develop the submitted scenar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mmunity of Practi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o co-evolve with the AIP Pilot and other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4297320" y="3254400"/>
            <a:ext cx="4591080" cy="3098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216000" y="3267000"/>
            <a:ext cx="3886200" cy="3113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393840" y="3898800"/>
            <a:ext cx="863640" cy="57168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70080" y="4165560"/>
            <a:ext cx="3352680" cy="73656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4775040"/>
            <a:ext cx="448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munity of Practice Wiki for AQ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 Scenario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pollution is a serious global public health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pollution is influenced by processes on local, regional, intercontinental, and global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tter understand, forecast, and manage air pollution, there is a need to bring together information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observational platforms (surface monitoring networks, satellites, sondes, ground-based remote sensors, aircraft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ological and chemical transport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s and emissions-generat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demographics, exposure-related behavior, and health impacts do not respect politica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 Scenario:  Actor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6760" y="1752120"/>
            <a:ext cx="819144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th Observations Provid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, State/Provincial, Local Environmental Management Agencies; National Meteorological Agencies; National Space Agencies; National Land Management Agencies; Industry; Consultants; Academic and Other Research Institutes; and international cooperative fora (e.g. WMO, CEOS, EEA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Related Information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37"/>
              </a:spcBef>
              <a:spcAft>
                <a:spcPts val="4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, State/Provincial, Local Commerce/Transportation/Energy/Land Use/Health Authorities; Industry; Consultants; Academic and Other Research Institut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r Quality Modelers, Forecasters, and Analy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, State/Provincial, Local Environmental Management Agencies; National Meteorological Agencies; National Space Agencies; Industry; Consultants; Academic and Other Research Institutes; and international scientific cooperative fora or projects (e.g., IGAC, GEMS, ECMWF, EMEP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Management Speci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37"/>
              </a:spcBef>
              <a:spcAft>
                <a:spcPts val="4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, State/Provincial, Local Environmental Management Agencies; National Meteorological Agencies; National Space Agencies; National Land Management Agencies; Industry; Consultants; Academic and Other Research Institut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r Quality Management Decision-Ma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, State/Provincial, Local Environmental Management Agencies and Multi-lateral Cooperative Fora (such as LRTAP Convention, EANET, Male Declaration, CAI-Asia, Arctic Council, ...);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Consumers of Air Quality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neral public; National, State/Provincial, and Local Health and Emergency Response Authorities; Academic and Independent Research Institutes (including health and environmental impacts research); Mass Media (including television, newspapers, radio, internet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: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Starting Information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6760" y="1752120"/>
            <a:ext cx="819144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eorological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s from ground-based networks, satellites, so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casts from numerical models at the global and regiona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graphical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d 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s-relate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ospheric Composition (Air Quality)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Monitoring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te Observ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nd-based remote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craft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erical Air Quality Chemical Transport Mod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t regional to global sc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 Scenario:  Focus Area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2040" y="1912680"/>
            <a:ext cx="8237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-Time Large-Scale Event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NET, IDEA, SmogB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ment of International and Intercontinental Transport of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AP Data Network, AMET, RSIG, Hemi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milation of Observations for Air Quality Fore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MS, RAQ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sion of Relevant Information to the Health Community &amp;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Now,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676600" y="1743120"/>
            <a:ext cx="5946840" cy="43718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8120" y="1800000"/>
            <a:ext cx="1914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W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38120" y="1800000"/>
            <a:ext cx="1914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W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622600" y="1600200"/>
            <a:ext cx="54705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2840" y="2135160"/>
            <a:ext cx="21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W – W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8-02-03T20:38:33Z</dcterms:modified>
  <cp:revision>230</cp:revision>
  <dc:subject/>
  <dc:title>Update on OGC involvement in GEOSS</dc:title>
</cp:coreProperties>
</file>